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180-AA63-48BE-B7D8-A730C5B4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FE7-6B8B-4AAA-94B8-FEFD825A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18B-0A07-49AB-8E6E-0F6B1EF4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60C-3FC6-4011-9468-EB526288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6B71-9950-42FD-8FFD-160A6780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0CB-5A1F-4360-825F-4997EF4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C69-F64C-4A6C-8E48-2245A66D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3BD3-11C0-49A5-BF9E-E9A715F9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BBBB-6A3B-4E30-B550-B9F9E98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C01-FD0E-45F9-9F0F-B29753ED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AEE4-A2CF-40B6-8F72-AA6DB12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E74-99DD-4E0C-BE51-44E108D1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584C-1AC4-4316-8159-856B6E6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FBD-5D09-4649-B5FD-94328F4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B8FB-2467-4AD8-9747-F316CC9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72E-BEA9-4B08-8872-1AD5928E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1D6-F85F-421E-BFCE-8BF55076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AB4E-DD71-49C8-BD9F-ED4C980E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4374-881C-4E35-B628-FA8797A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ED4E-59CF-416F-8845-DBE9127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7979-E92F-40CE-AAB9-CB88261D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414F-EBB4-429F-9FA0-1973136B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B09-1749-4624-A352-E22A2AF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9146-1C05-4ECA-B219-845A9D69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2651-7CA3-4F92-9872-74CFFB9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DA93-618B-4659-8F75-E7B63D3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67C1-369E-4BBE-B440-E4C4978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B79E-7B2C-4E88-A66E-7FC4E3F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F31B-BBB4-4924-8DB9-309321A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4082-6F51-4EFF-B536-E4F0DAF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EABD-C38A-4681-8DF3-68258EC8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74A4-DFB5-4823-A348-BF14CB3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6D6A-7225-4D6A-9265-95A28C9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421-5C00-4E59-95AC-FBA7CBB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7CFA-15EC-4EF9-95F1-E59A68D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6151-DD6C-4964-A2A8-2808724D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7557-6234-4CC2-B0B5-CF7C91B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74F0-B99D-4BDC-967F-5DFE7FA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166B-664C-49E1-9B29-6D2DFA4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3BB0-0F7F-46FB-8A2E-D8B8CF07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18C5-11FF-4440-9715-0137D14C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5093-324E-43CA-AC4B-B3C6C539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558E-6CB2-4FA9-AD9E-DC49A200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6924-C268-4B21-A421-4DA84855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663-F545-4FBD-A3A4-9D4A71F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1815-9C43-4F95-B0E7-6184B9D9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8950D-7941-4BBF-8C44-44A9874C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C987-CB59-4C54-A012-37066ED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6212-6126-478B-B748-04F67E3C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616B7-DA1A-4641-B69A-2823634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BA34-AA86-42DC-8B99-D7D5F46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902B-9B2C-47A1-B038-A4F7172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B7A1-EA9B-4323-915A-AB4547D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80CF-A406-4F10-9396-85F629D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AD67-0B72-419C-9FC8-5675D7EB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1CA-685A-415D-BCD0-5BFE88D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83BE-BBD2-42D2-AB95-09F5B50B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798D-4F6F-4103-83B6-0B858DE5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76B2-70FB-40D8-AC08-86AA491F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8D7F-9448-4FDF-B010-9E70F33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F494-7E6A-4D40-9F44-BCA9BEE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F033-6276-42BA-9BC0-0F8ECB6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4154-5201-4EF0-B151-4023353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A868-81C1-4143-9B88-C4BE773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7535-2313-4439-AC50-CFAC421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0D1E-5A17-4711-96C6-20925B2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FC0-EC2F-4FE1-93D6-FB4DCA8F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3D0A-61D2-4A7F-A523-CA19A32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9818-3006-40E7-A5D4-FDA7A3E2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D646-B964-462D-8B30-8422D02E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D98-5C19-4B4E-AB49-418BAFB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0B6-ADBF-4C1B-9704-8B8A303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F247-7837-4607-9399-60D98030893C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24646-7592-4D53-AB70-D5EAD2C4402D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9D5FE-F293-405C-8145-46180C233A46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E3932-0537-4E89-89C3-7F4AA7BAB9A8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25091-D3E5-46EA-B8E7-AD628C14AA6E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DDB1F-838D-4914-8F85-BDD54D8A91EA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FBC00-E97F-4313-AD06-EEC42C2202C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7C59F-13A9-40AC-BC4C-E9FE26CE2AEA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5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64AAB-A873-4681-BE4D-C1CFEBF79F76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B5E73-1784-498D-A903-FAF8144AD7A2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5B2A3-DBDB-4F49-97D2-54384A98BC1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E5F40-C7C3-402E-B9A2-1E5BE20D2589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24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" Target="slide6.xml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" Target="slide7.xml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" Target="slide17.xml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" Target="slide8.xml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" Target="slide19.xml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slide" Target="slide21.xml"/><Relationship Id="rId28" Type="http://schemas.openxmlformats.org/officeDocument/2006/relationships/image" Target="../media/image23.png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" Target="slide9.xml"/><Relationship Id="rId11" Type="http://schemas.openxmlformats.org/officeDocument/2006/relationships/image" Target="../media/image33.png"/><Relationship Id="rId12" Type="http://schemas.openxmlformats.org/officeDocument/2006/relationships/slide" Target="slide10.xml"/><Relationship Id="rId13" Type="http://schemas.openxmlformats.org/officeDocument/2006/relationships/image" Target="../media/image34.png"/><Relationship Id="rId14" Type="http://schemas.openxmlformats.org/officeDocument/2006/relationships/slide" Target="slide11.xml"/><Relationship Id="rId15" Type="http://schemas.openxmlformats.org/officeDocument/2006/relationships/image" Target="../media/image35.png"/><Relationship Id="rId16" Type="http://schemas.openxmlformats.org/officeDocument/2006/relationships/slide" Target="slide12.xml"/><Relationship Id="rId17" Type="http://schemas.openxmlformats.org/officeDocument/2006/relationships/image" Target="../media/image36.png"/><Relationship Id="rId18" Type="http://schemas.openxmlformats.org/officeDocument/2006/relationships/slide" Target="slide13.xml"/><Relationship Id="rId19" Type="http://schemas.openxmlformats.org/officeDocument/2006/relationships/image" Target="../media/image37.png"/><Relationship Id="rId20" Type="http://schemas.openxmlformats.org/officeDocument/2006/relationships/slide" Target="slide14.xml"/><Relationship Id="rId21" Type="http://schemas.openxmlformats.org/officeDocument/2006/relationships/image" Target="../media/image38.png"/><Relationship Id="rId22" Type="http://schemas.openxmlformats.org/officeDocument/2006/relationships/slide" Target="slide15.xml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560600"/>
          </a:xfrm>
          <a:prstGeom prst="rect">
            <a:avLst/>
          </a:prstGeom>
          <a:ln w="0">
            <a:noFill/>
          </a:ln>
        </p:spPr>
      </p:pic>
      <p:pic>
        <p:nvPicPr>
          <p:cNvPr id="249" name="Subtitle 2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2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PURPOS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3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SPEECH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2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4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AC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5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5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LIV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8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3"/>
          <a:stretch/>
        </p:blipFill>
        <p:spPr>
          <a:xfrm>
            <a:off x="5500800" y="1332000"/>
            <a:ext cx="1066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6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EFFORT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2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7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THINK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5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8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MEDITA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8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is Wher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uth Asia was the birthplace of Buddh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98760" y="3849840"/>
            <a:ext cx="1625400" cy="1574640"/>
          </a:xfrm>
          <a:prstGeom prst="rect">
            <a:avLst/>
          </a:prstGeom>
          <a:ln w="0">
            <a:noFill/>
          </a:ln>
        </p:spPr>
      </p:pic>
      <p:pic>
        <p:nvPicPr>
          <p:cNvPr id="332" name="Action Button: Home 5" descr=""/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  <p:pic>
        <p:nvPicPr>
          <p:cNvPr id="333" name="Action Button: Custom 6" descr=""/>
          <p:cNvPicPr/>
          <p:nvPr/>
        </p:nvPicPr>
        <p:blipFill>
          <a:blip r:embed="rId4"/>
          <a:stretch/>
        </p:blipFill>
        <p:spPr>
          <a:xfrm>
            <a:off x="2432160" y="3803760"/>
            <a:ext cx="1755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309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Spread Across Asi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8600" y="1899720"/>
            <a:ext cx="81468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roughout the years, Buddhism spread across Asia and Buddhism wasn’t just a religion practiced in South Asi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6" name="Action Button: Home 3" descr=""/>
          <p:cNvPicPr/>
          <p:nvPr/>
        </p:nvPicPr>
        <p:blipFill>
          <a:blip r:embed="rId2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Buddhism Bring To Asia? 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uddhism brought the ideas of the “Fourth Noble Truths”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6620040" y="4119480"/>
            <a:ext cx="660240" cy="1625760"/>
          </a:xfrm>
          <a:prstGeom prst="rect">
            <a:avLst/>
          </a:prstGeom>
          <a:ln w="0">
            <a:noFill/>
          </a:ln>
        </p:spPr>
      </p:pic>
      <p:pic>
        <p:nvPicPr>
          <p:cNvPr id="340" name="Action Button: Custom 5" descr=""/>
          <p:cNvPicPr/>
          <p:nvPr/>
        </p:nvPicPr>
        <p:blipFill>
          <a:blip r:embed="rId3"/>
          <a:stretch/>
        </p:blipFill>
        <p:spPr>
          <a:xfrm>
            <a:off x="6553080" y="4078440"/>
            <a:ext cx="792360" cy="1755720"/>
          </a:xfrm>
          <a:prstGeom prst="rect">
            <a:avLst/>
          </a:prstGeom>
          <a:ln w="0">
            <a:noFill/>
          </a:ln>
        </p:spPr>
      </p:pic>
      <p:pic>
        <p:nvPicPr>
          <p:cNvPr id="341" name="Action Button: Home 6" descr=""/>
          <p:cNvPicPr/>
          <p:nvPr/>
        </p:nvPicPr>
        <p:blipFill>
          <a:blip r:embed="rId4"/>
          <a:stretch/>
        </p:blipFill>
        <p:spPr>
          <a:xfrm>
            <a:off x="7523280" y="5450040"/>
            <a:ext cx="888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7230960" y="1311120"/>
            <a:ext cx="1666800" cy="1893960"/>
          </a:xfrm>
          <a:prstGeom prst="rect">
            <a:avLst/>
          </a:prstGeom>
          <a:ln w="0">
            <a:noFill/>
          </a:ln>
        </p:spPr>
      </p:pic>
      <p:pic>
        <p:nvPicPr>
          <p:cNvPr id="251" name="Action Button: Custom 4" descr=""/>
          <p:cNvPicPr/>
          <p:nvPr/>
        </p:nvPicPr>
        <p:blipFill>
          <a:blip r:embed="rId3"/>
          <a:stretch/>
        </p:blipFill>
        <p:spPr>
          <a:xfrm>
            <a:off x="7162920" y="1262160"/>
            <a:ext cx="1798560" cy="203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4"/>
          <a:stretch/>
        </p:blipFill>
        <p:spPr>
          <a:xfrm>
            <a:off x="3513240" y="5268960"/>
            <a:ext cx="1898640" cy="1292040"/>
          </a:xfrm>
          <a:prstGeom prst="rect">
            <a:avLst/>
          </a:prstGeom>
          <a:ln w="0">
            <a:noFill/>
          </a:ln>
        </p:spPr>
      </p:pic>
      <p:pic>
        <p:nvPicPr>
          <p:cNvPr id="253" name="Action Button: Custom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44840" y="5224320"/>
            <a:ext cx="2102040" cy="1425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7"/>
          <a:stretch/>
        </p:blipFill>
        <p:spPr>
          <a:xfrm>
            <a:off x="409680" y="3983040"/>
            <a:ext cx="1230120" cy="2571840"/>
          </a:xfrm>
          <a:prstGeom prst="rect">
            <a:avLst/>
          </a:prstGeom>
          <a:ln w="0">
            <a:noFill/>
          </a:ln>
        </p:spPr>
      </p:pic>
      <p:pic>
        <p:nvPicPr>
          <p:cNvPr id="255" name="Action Button: Custom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1280" y="3938760"/>
            <a:ext cx="1359000" cy="2711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10"/>
          <a:stretch/>
        </p:blipFill>
        <p:spPr>
          <a:xfrm>
            <a:off x="6254640" y="4257720"/>
            <a:ext cx="1414440" cy="2023920"/>
          </a:xfrm>
          <a:prstGeom prst="rect">
            <a:avLst/>
          </a:prstGeom>
          <a:ln w="0">
            <a:noFill/>
          </a:ln>
        </p:spPr>
      </p:pic>
      <p:pic>
        <p:nvPicPr>
          <p:cNvPr id="257" name="Action Button: Custom 1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188040" y="4211640"/>
            <a:ext cx="1541520" cy="2158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3"/>
          <a:stretch/>
        </p:blipFill>
        <p:spPr>
          <a:xfrm>
            <a:off x="5289480" y="878040"/>
            <a:ext cx="933480" cy="741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0"/>
          <p:cNvSpPr/>
          <p:nvPr/>
        </p:nvSpPr>
        <p:spPr>
          <a:xfrm>
            <a:off x="4673520" y="161928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02c24"/>
                </a:solidFill>
                <a:latin typeface="Book Antiqua"/>
              </a:rPr>
              <a:t>WANTS</a:t>
            </a:r>
            <a:endParaRPr b="0" lang="en-US" sz="44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60" name="Action Button: Custom 2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602240" y="762120"/>
            <a:ext cx="2298600" cy="1712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"/>
          <p:cNvPicPr/>
          <p:nvPr/>
        </p:nvPicPr>
        <p:blipFill>
          <a:blip r:embed="rId16"/>
          <a:stretch/>
        </p:blipFill>
        <p:spPr>
          <a:xfrm>
            <a:off x="409680" y="217440"/>
            <a:ext cx="1500120" cy="1844640"/>
          </a:xfrm>
          <a:prstGeom prst="rect">
            <a:avLst/>
          </a:prstGeom>
          <a:ln w="0">
            <a:noFill/>
          </a:ln>
        </p:spPr>
      </p:pic>
      <p:pic>
        <p:nvPicPr>
          <p:cNvPr id="262" name="Action Button: Custom 24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60360" y="176040"/>
            <a:ext cx="1676520" cy="2024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5" descr=""/>
          <p:cNvPicPr/>
          <p:nvPr/>
        </p:nvPicPr>
        <p:blipFill>
          <a:blip r:embed="rId19"/>
          <a:stretch/>
        </p:blipFill>
        <p:spPr>
          <a:xfrm>
            <a:off x="3745080" y="3205080"/>
            <a:ext cx="2011320" cy="1684440"/>
          </a:xfrm>
          <a:prstGeom prst="rect">
            <a:avLst/>
          </a:prstGeom>
          <a:ln w="0">
            <a:noFill/>
          </a:ln>
        </p:spPr>
      </p:pic>
      <p:pic>
        <p:nvPicPr>
          <p:cNvPr id="264" name="Action Button: Custom 2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3676680" y="3164040"/>
            <a:ext cx="2144520" cy="181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"/>
          <p:cNvPicPr/>
          <p:nvPr/>
        </p:nvPicPr>
        <p:blipFill>
          <a:blip r:embed="rId22"/>
          <a:stretch/>
        </p:blipFill>
        <p:spPr>
          <a:xfrm>
            <a:off x="2376360" y="601560"/>
            <a:ext cx="1611360" cy="170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"/>
          <p:cNvPicPr/>
          <p:nvPr/>
        </p:nvPicPr>
        <p:blipFill>
          <a:blip r:embed="rId23"/>
          <a:stretch/>
        </p:blipFill>
        <p:spPr>
          <a:xfrm>
            <a:off x="1887480" y="258300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267" name="Action Button: Custom 18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816200" y="2541600"/>
            <a:ext cx="1762200" cy="1371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"/>
          <p:cNvPicPr/>
          <p:nvPr/>
        </p:nvPicPr>
        <p:blipFill>
          <a:blip r:embed="rId26"/>
          <a:stretch/>
        </p:blipFill>
        <p:spPr>
          <a:xfrm>
            <a:off x="2077920" y="4257720"/>
            <a:ext cx="1163880" cy="1868400"/>
          </a:xfrm>
          <a:prstGeom prst="rect">
            <a:avLst/>
          </a:prstGeom>
          <a:ln w="0">
            <a:noFill/>
          </a:ln>
        </p:spPr>
      </p:pic>
      <p:pic>
        <p:nvPicPr>
          <p:cNvPr id="269" name="Action Button: Custom 21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011320" y="4211640"/>
            <a:ext cx="1292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Hinduism Bring To South Asia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3" name="Content Placeholder 2" descr=""/>
          <p:cNvPicPr/>
          <p:nvPr/>
        </p:nvPicPr>
        <p:blipFill>
          <a:blip r:embed="rId2"/>
          <a:stretch/>
        </p:blipFill>
        <p:spPr>
          <a:xfrm>
            <a:off x="493560" y="1755720"/>
            <a:ext cx="8156880" cy="4376880"/>
          </a:xfrm>
          <a:prstGeom prst="rect">
            <a:avLst/>
          </a:prstGeom>
          <a:ln w="0">
            <a:noFill/>
          </a:ln>
        </p:spPr>
      </p:pic>
      <p:pic>
        <p:nvPicPr>
          <p:cNvPr id="344" name="Action Button: Home 3" descr=""/>
          <p:cNvPicPr/>
          <p:nvPr/>
        </p:nvPicPr>
        <p:blipFill>
          <a:blip r:embed="rId3"/>
          <a:stretch/>
        </p:blipFill>
        <p:spPr>
          <a:xfrm>
            <a:off x="7523280" y="5376960"/>
            <a:ext cx="895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soka Wh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soka was a Hindu General who was one of the greatest ruler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e taught all of the beliefs and stressed religious toleration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Book Antiqua"/>
              </a:rPr>
              <a:t>Buddha</a:t>
            </a:r>
            <a:endParaRPr b="0" lang="en-US" sz="6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0440" y="1828800"/>
            <a:ext cx="77198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The name Buddha means </a:t>
            </a:r>
            <a:r>
              <a:rPr b="0" i="1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“The Enlightened One” Siddhartha Gautama was called Buddha because he knew a lot about how to live a good life.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2" name="Action Button: Hom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Today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oday, there are still over 300 million people still worship Buddh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here are many different practices of Buddhism today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5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irst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Chalkboard"/>
                <a:ea typeface="Chalkboard"/>
              </a:rPr>
              <a:t>Everything in life is sad or sorrowful.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8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Second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pple Casual"/>
                <a:ea typeface="Apple Casual"/>
              </a:rPr>
              <a:t>The cause of sadness, or sorrow, is desire and attachment. People seek joys that lead to suffering. 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1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Third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merican Typewriter"/>
                <a:ea typeface="American Typewriter"/>
              </a:rPr>
              <a:t>The way to end all pain is to end all want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4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ourth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o stop sorrow you must follow the Eight Fold Path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1400040" y="3468600"/>
            <a:ext cx="411120" cy="138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2158920" y="3524400"/>
            <a:ext cx="803520" cy="127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4"/>
          <a:stretch/>
        </p:blipFill>
        <p:spPr>
          <a:xfrm>
            <a:off x="3274920" y="3502080"/>
            <a:ext cx="703440" cy="1297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5"/>
          <a:stretch/>
        </p:blipFill>
        <p:spPr>
          <a:xfrm>
            <a:off x="4202280" y="3468600"/>
            <a:ext cx="804600" cy="1408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6"/>
          <a:stretch/>
        </p:blipFill>
        <p:spPr>
          <a:xfrm>
            <a:off x="5257800" y="3502080"/>
            <a:ext cx="890640" cy="1430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7"/>
          <a:stretch/>
        </p:blipFill>
        <p:spPr>
          <a:xfrm>
            <a:off x="6373800" y="3559320"/>
            <a:ext cx="939960" cy="1401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"/>
          <p:cNvPicPr/>
          <p:nvPr/>
        </p:nvPicPr>
        <p:blipFill>
          <a:blip r:embed="rId8"/>
          <a:stretch/>
        </p:blipFill>
        <p:spPr>
          <a:xfrm>
            <a:off x="7601040" y="3502080"/>
            <a:ext cx="1044360" cy="1458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"/>
          <p:cNvPicPr/>
          <p:nvPr/>
        </p:nvPicPr>
        <p:blipFill>
          <a:blip r:embed="rId9"/>
          <a:stretch/>
        </p:blipFill>
        <p:spPr>
          <a:xfrm>
            <a:off x="272880" y="3468600"/>
            <a:ext cx="912960" cy="1281240"/>
          </a:xfrm>
          <a:prstGeom prst="rect">
            <a:avLst/>
          </a:prstGeom>
          <a:ln w="0">
            <a:noFill/>
          </a:ln>
        </p:spPr>
      </p:pic>
      <p:pic>
        <p:nvPicPr>
          <p:cNvPr id="295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08080" y="3425760"/>
            <a:ext cx="1041120" cy="1463760"/>
          </a:xfrm>
          <a:prstGeom prst="rect">
            <a:avLst/>
          </a:prstGeom>
          <a:ln w="0">
            <a:noFill/>
          </a:ln>
        </p:spPr>
      </p:pic>
      <p:pic>
        <p:nvPicPr>
          <p:cNvPr id="296" name="Action Button: Custom 15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28760" y="3425760"/>
            <a:ext cx="542880" cy="1463760"/>
          </a:xfrm>
          <a:prstGeom prst="rect">
            <a:avLst/>
          </a:prstGeom>
          <a:ln w="0">
            <a:noFill/>
          </a:ln>
        </p:spPr>
      </p:pic>
      <p:pic>
        <p:nvPicPr>
          <p:cNvPr id="297" name="Action Button: Custom 16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90880" y="3481560"/>
            <a:ext cx="933480" cy="1407960"/>
          </a:xfrm>
          <a:prstGeom prst="rect">
            <a:avLst/>
          </a:prstGeom>
          <a:ln w="0">
            <a:noFill/>
          </a:ln>
        </p:spPr>
      </p:pic>
      <p:pic>
        <p:nvPicPr>
          <p:cNvPr id="298" name="Action Button: Custom 17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206880" y="3425760"/>
            <a:ext cx="834840" cy="1463760"/>
          </a:xfrm>
          <a:prstGeom prst="rect">
            <a:avLst/>
          </a:prstGeom>
          <a:ln w="0">
            <a:noFill/>
          </a:ln>
        </p:spPr>
      </p:pic>
      <p:pic>
        <p:nvPicPr>
          <p:cNvPr id="299" name="Action Button: Custom 18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133880" y="3425760"/>
            <a:ext cx="938160" cy="1536840"/>
          </a:xfrm>
          <a:prstGeom prst="rect">
            <a:avLst/>
          </a:prstGeom>
          <a:ln w="0">
            <a:noFill/>
          </a:ln>
        </p:spPr>
      </p:pic>
      <p:pic>
        <p:nvPicPr>
          <p:cNvPr id="300" name="Action Button: Custom 19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7960" y="3481560"/>
            <a:ext cx="1023840" cy="1541160"/>
          </a:xfrm>
          <a:prstGeom prst="rect">
            <a:avLst/>
          </a:prstGeom>
          <a:ln w="0">
            <a:noFill/>
          </a:ln>
        </p:spPr>
      </p:pic>
      <p:pic>
        <p:nvPicPr>
          <p:cNvPr id="301" name="Action Button: Custom 20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303960" y="3517920"/>
            <a:ext cx="1071720" cy="1530360"/>
          </a:xfrm>
          <a:prstGeom prst="rect">
            <a:avLst/>
          </a:prstGeom>
          <a:ln w="0">
            <a:noFill/>
          </a:ln>
        </p:spPr>
      </p:pic>
      <p:pic>
        <p:nvPicPr>
          <p:cNvPr id="302" name="Action Button: Custom 21" descr=""/>
          <p:cNvPicPr/>
          <p:nvPr/>
        </p:nvPicPr>
        <p:blipFill>
          <a:blip r:embed="rId24"/>
          <a:stretch/>
        </p:blipFill>
        <p:spPr>
          <a:xfrm>
            <a:off x="7527960" y="3425760"/>
            <a:ext cx="1182600" cy="1622520"/>
          </a:xfrm>
          <a:prstGeom prst="rect">
            <a:avLst/>
          </a:prstGeom>
          <a:ln w="0">
            <a:noFill/>
          </a:ln>
        </p:spPr>
      </p:pic>
      <p:pic>
        <p:nvPicPr>
          <p:cNvPr id="303" name="Action Button: Home 22" descr=""/>
          <p:cNvPicPr/>
          <p:nvPr/>
        </p:nvPicPr>
        <p:blipFill>
          <a:blip r:embed="rId25"/>
          <a:stretch/>
        </p:blipFill>
        <p:spPr>
          <a:xfrm>
            <a:off x="7527960" y="5553000"/>
            <a:ext cx="714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1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KNOWLEDG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7:01Z</dcterms:created>
  <dc:creator>Cox, Emily R</dc:creator>
  <dc:description/>
  <dc:language>en-US</dc:language>
  <cp:lastModifiedBy>Cox, Emily R</cp:lastModifiedBy>
  <cp:lastPrinted>2010-12-09T16:29:19Z</cp:lastPrinted>
  <dcterms:modified xsi:type="dcterms:W3CDTF">2010-12-21T19:11:35Z</dcterms:modified>
  <cp:revision>8</cp:revision>
  <dc:subject/>
  <dc:title>BUDDHISM</dc:title>
</cp:coreProperties>
</file>